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2325B8-5138-4F35-B775-58AE4C0EF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379F76-8084-4B26-8353-9E59B4FD593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0A8D44-A6E9-497D-9BA5-9FE7BA0565B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86EBA6-FD68-4220-BB35-D1D83F0531F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88480" y="1320120"/>
            <a:ext cx="7214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400" spc="-1" strike="noStrike">
                <a:solidFill>
                  <a:srgbClr val="003366"/>
                </a:solidFill>
                <a:latin typeface="Arial"/>
              </a:rPr>
              <a:t>Employment Services</a:t>
            </a:r>
            <a:r>
              <a:rPr b="1" lang="en-CA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67280" y="5562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6168960" y="0"/>
            <a:ext cx="2975040" cy="12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EO-BW-Eng"/>
          <p:cNvPicPr/>
          <p:nvPr/>
        </p:nvPicPr>
        <p:blipFill>
          <a:blip r:embed="rId2"/>
          <a:stretch/>
        </p:blipFill>
        <p:spPr>
          <a:xfrm>
            <a:off x="6477120" y="5638680"/>
            <a:ext cx="234612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articipant Suppor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$500.00 to remove barriers to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ential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cond Caree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with Career Explo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Researching L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ompleting Application For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pplication Submission to M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with Job Search following training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TIO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467840" cy="34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&amp; Development of a Return to Work Servic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5 hours a week for four weeks on-site career exploration, job search strategies, in-house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ff-site training when requir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ccess to job development &amp; training incentiv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Client Referral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CIC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pecialize in working with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ten have a diverse multi-lingual staf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ssist in the settlement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fer workshops specifically geared to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Many offer childca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796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OES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alize in Employment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 time Job Develop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Job Matching &amp; Participant Incen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ledge &amp; Access to other Employment Ontario Servi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traight Connector 4"/>
          <p:cNvSpPr/>
          <p:nvPr/>
        </p:nvSpPr>
        <p:spPr>
          <a:xfrm>
            <a:off x="4648320" y="601992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648320" y="2514600"/>
            <a:ext cx="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>
            <a:off x="4572000" y="2438280"/>
            <a:ext cx="0" cy="3657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Working in Partnership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r Range of Client Servi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Knowledge of Community &amp; Governmen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y for Improved Response to Cli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ater Opportunity for Client Accommodation e.g. EOES Group Workshop at CIC Funded Site to allow Day C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0580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5" name="Picture 7" descr="Businessman and question mark"/>
          <p:cNvPicPr/>
          <p:nvPr/>
        </p:nvPicPr>
        <p:blipFill>
          <a:blip r:embed="rId1"/>
          <a:stretch/>
        </p:blipFill>
        <p:spPr>
          <a:xfrm>
            <a:off x="1727280" y="24004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UHC History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88760" y="2361960"/>
            <a:ext cx="62355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stablished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pecialize in Employment Counselling Services formerly adult now all eligible job seekers in Oshawa &amp; Pick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cipient of Four Ministers Awards for Service Excell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ISO Registered Agency since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22,000 visitors per yea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ocations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h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72 King Street E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/parent play/counsell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3660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ick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00 Bayly Str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elcom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casional Childcare for JS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0080" y="834120"/>
            <a:ext cx="6637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IC/ Newcomer Service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SW since 200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ent Centric: Half- Full day workshop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ader of Pickering Welcome Centre 2011 – Transitional Mod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ntorship Program 2011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mployment Ontario Employment Services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Resources &amp;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Individually Tailored Service Pl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Reten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Matching &amp; Plac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econd Care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TIOW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sources &amp; Information Oshaw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 Dedicated client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Time Resource Support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 Centric Workshop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30 a.m.- 8:00 p.m. Mon – Th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ic Computer Training – evening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Resou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rals &amp;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rvice Pla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velopment of Tailored Return to Work Service Plan to assist clients in meeting their employment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ferral to other E.O. Services or other community/ Government Ser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follow-up &amp;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Retention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1629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be part of Client’s Service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cli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oor work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ck of Canadian Work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 &amp; Group Couns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Matching Placemen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Benefits Job Seekers that cannot compete in a competitiv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-Full time dedicated job developers actively soliciting 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Incentive for Employer ($2-2,500 averag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can be on the job or formal (off-si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support intervention based on client n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8:20:10Z</dcterms:created>
  <dc:creator>student1</dc:creator>
  <dc:description/>
  <dc:language>en-US</dc:language>
  <cp:lastModifiedBy>aholmes</cp:lastModifiedBy>
  <dcterms:modified xsi:type="dcterms:W3CDTF">2011-07-08T18:53:33Z</dcterms:modified>
  <cp:revision>199</cp:revision>
  <dc:subject/>
  <dc:title>Slide 1</dc:title>
</cp:coreProperties>
</file>